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1DAF-8E6A-4960-9580-752752219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019B-B9D6-4890-999B-14CC16A07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AEDC-036B-4BC3-B5CD-C95930676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7309-B537-4DA3-9BE0-37CD57AD7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F7E31-257E-45CA-9953-184CFDA55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356D3-9A28-444E-A61C-9E5BA32C6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32899-07CD-4CA3-B5FC-2E8B7653B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0E6E3-A067-441E-BBF3-64215137D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A87CF-7CBE-4A44-9E0E-F0953A3E2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51B9A-18BA-4749-8A7B-7B544408E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F1343-93D7-41BB-9953-E1A724D8D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716B-7643-4231-9176-33B1B1B98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9C54D-93B6-43FC-B107-2986B8530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1FE84-9CEF-47DF-83BE-DBA68A78D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34ADE-3A10-45DC-A9ED-5E268D18F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02CC3-4B07-4173-90BC-7A1EFD90D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00D03-66AA-437D-BF6C-92FE8EE7E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EA3B-4919-4076-8839-792FC56A1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3C6B-ED45-4AE9-B02D-DEE860FFB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721D-858A-44C4-A876-C6F7349BE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639C-2193-44D4-AC83-F92EE011D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0157-1CA9-482F-AD58-12C59689B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9913-4D41-4DC8-816E-F1C269A68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3EF4-3B80-42D9-8E69-DB36504D0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DEB8C-69CF-4D63-85A0-B9541E225EC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1B635-A40D-4016-9F1D-C196475D042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ПРИОРИТЕТНЫЙ ПРОЕКТ «ФОРМИРОВАНИЕ КОМФОРТНОЙ ГОРОДСКОЙ СРЕДЫ»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ель приоритетного проекта - создание условий для системного повышения качества и комфорта городской среды на территории Дальнереченского городского округа путем реализации ежегодно (в период с 2017 по 2022 годы) комплекса первоочередных мероприятий по благоустройств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МЕРОПРИЯТИЯ, НАПРАВЛЕННЫЕ НА ДОСТИЖЕНИЕ ПОСТАВЛЕННЫХ ЦЕЛЕЙ</a:t>
            </a: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«Благоустройство дворовых территорий и мест общего пользования», в т.ч.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Благоустройство дворовых территорий многоквартир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илых дом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Благоустройство мест общего польз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«Обустройство территории городского парка»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Мероприятия осуществляются в рамках муниципальной программы «Формирование современной городской среды Дальнереченского городского округа» на 2018-2022 годы, утвержденной постановлением администрации ДГО от 31.10.2017 № 84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ПРОГНОЗИРУЕМЫЙ ОБЩИЙ ОБЪЕМ ФИНАНСИРОВАНИЯ ПРОЕКТА – 152,9 МЛН.РУБ.,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 Т.Ч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09120" y="1599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счет федеральных средст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8 год – 11,2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9 год –  8,0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0 год – 10,94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1 год – 27,74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2 год – 41,6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647960" y="1599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счет краевых средст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8 год – 1,53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9 год – 18,16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0 год – 17,28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1 год – 4,94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2 год – 7,71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09120" y="3885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счет средств местного бюдже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8 год – 0,38 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9 год – 0,92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0 год – 0,87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1 год – 0,8 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2 год – 0,8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647960" y="3885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инансовое участие собственников помещений в размере не менее 5% от стоимости работ по благоустройству в рамках минимального и дополнительного перечней работ  и (или) трудовое участ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ОЖИДАЕМЫЕ РЕЗУЛЬТАТЫ РЕАЛИЗАЦИИ ПРОЕКТА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Благоустройство 163 дворовых территорий многоквартирных жилых домов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Благоустройство 6 общественных территорий городского округ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Обустройство территории городского парка Дальнереченского городского округа – площадь обустроенного места 28600 кв.м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уранова</cp:lastModifiedBy>
  <dcterms:modified xsi:type="dcterms:W3CDTF">2020-02-06T01:52:32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